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4F52D-21DC-4722-84A4-DF5BDAD5E9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590CC-6905-4402-85A5-E379FAFA60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671D9-B2A7-4CF3-B2B5-053C29D12D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25D31-B706-4C34-A61B-7DA8464BE4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0EF94-A5AB-485A-A843-1315ACDD26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A1000-B4D1-480A-B347-7C97F77B56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5786DF-86BC-4995-BF4C-095E493834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BFC77-81A4-413D-851E-646259F1A3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9A9426-4B98-491F-B7F4-26CD0504BA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CE83-9A64-4F8B-BAAC-150FAD375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2A94-73E6-45E5-9B8C-0760C33D88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44FD-8B2C-48A5-B511-9E30C8FF85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42450-C993-4F89-8BF9-2A7A48856F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FFD36-DB49-4C83-AB60-B7411204EA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835D-9F6D-49E4-9EB8-0E02E2FF83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0091-596A-4F61-80E5-804A7C90F3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48AC5-DC34-409B-AFB9-E64D7DD7E6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BF56-12A3-4661-BB2E-56815701EC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01CD-8A5C-4C62-87CB-E5BD59E252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0FA9-028C-4A18-A2FD-CD89BBED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78CC-CC76-41F4-8569-38B1D27593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3888B-3994-422A-9634-0FF043C86D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4E59C-4747-4B29-B549-3CA7A08522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8C50D-F0C8-4C40-B7E0-4448765535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956A3-7783-4560-B91C-3CFA59076C0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99734-9088-4DBE-BB3F-6883136538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1034B-4DE3-4340-8BFA-015CA816E2B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8F3F2-97D5-4271-90F6-B0ACF9B6EA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9AF93-1079-441D-B33F-3A0495145E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7C830-2AD9-4181-B443-8D4AAA002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2A48-A5F3-4D7E-9755-EFD01D8475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4A76D-34D4-4D7A-AC9F-CDA20A5327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99B68-4D22-4F7D-98E1-28FDC33D9A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6B624-A770-4F36-9CE7-96712A440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91D3-B634-47D5-A347-E87635D50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7A76-19DE-430D-9291-E4ECDB8B9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91C4-02F7-4CB9-92DD-E977A28001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481C-0061-4642-A106-E4C864687A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1774-F2F7-4A77-B623-A418EC9FB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FBE6-8C37-4231-8872-CD6D38CC4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D4A2-7CD4-4CCF-BB15-BAE9E24E4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3C1F-BB42-412B-84AD-635FC15727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0D29-2DE3-4A6E-ABF2-3EB319B772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E21D-0061-4C78-B442-A69BAD1F78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1F96-8BE9-4A3F-8500-C4363457CA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576A-AEAA-4B77-BC76-014AB9CB73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72192-69DE-476C-9661-2FA9FC35FA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D6297-C5A7-499C-8A9D-A8F4870DC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CDC81-494A-4A59-A0E3-DBBF7B60BB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69AB-B65B-45D7-9EC2-77A2ECE52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2BF6-A250-4F6F-9185-354C35C20B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6DCEA-E3FF-4B08-8FAA-34638F64E8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58B8E-D042-49DA-B3EF-64F41376F0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38C88-0ABE-4ECE-855A-374D66C05F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A97D-2F4C-4776-B354-B17B5A3767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1B174-1ED9-4C29-AA6F-5937B7F1A8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36E16-7940-4420-BB70-417D34E7B8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375C-6338-4540-8388-A30F6E4788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306-0E04-4CD3-9EC9-E712116B25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2AF-131A-4289-A982-1DA5C9688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5C72-C7A1-4E09-9D0C-5BDFFCA16A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CA3-F60D-4BE0-AE5A-3D98584ACB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EFD-0C17-484C-8A38-69F0E0D672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AB3-B22D-4FEC-9E24-E17B7E7C69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C259-2B10-4E65-8A22-9DA012AA60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A5FA-3C46-403E-AF50-8650925EAE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FA81-B66F-4D18-AE0E-F94F5C6D6E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5E34-D9AD-4F11-9745-2FB09E493C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5368-738A-42C5-9395-95D4657A4D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E9834-F9FF-4304-8B4A-BB4BD703C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350C0-56C4-4D90-AB2D-920D92FF8C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FFF48-E2A8-4D0E-9B57-CC65487B2D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C3C10-ECAC-4074-BC7C-98D7038DA3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A20C0-08E6-4B32-9283-D5A291916B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B48F2-4FAF-4161-875F-1310B84841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8D841-2CD2-49C7-9265-848089ECFC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A3B06-60A7-41E4-8C1F-55B7EF069B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9060B-6140-48C4-B59A-86B0A342F1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01556-F55B-431B-9D88-2CD426CF17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40AAE-5373-47BD-8691-108E80CEC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B8A3B-8245-46A4-802F-C7430E47678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96D5A-99CE-4EFC-B302-6888365862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CBAB0-77D6-46EB-B041-5B02AF4F64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5CF9F-28E4-4447-B216-790EC4B54F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6F358-D1E3-4955-AC16-FDD9D94EB1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CF1E7-9BAE-402C-A4ED-0EF722A02E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0E92A-D7AD-482E-80AC-42F82760F4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36A17-7465-4F45-B233-237A12C057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BA449-07D2-4EB1-B7DD-695720BD89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C1509-C1FD-4B21-AB04-D0DA70FF1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E185F-D47E-4919-9EC5-946FE79D0E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21A98-F443-4D38-9DB7-38B0133802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A0B8F-6009-4915-B865-A8823F5350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38F2-F38E-45A2-B89C-7B0FB66C2DF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E72B-A555-4966-9418-529475FD53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C730-1B36-4CEB-A228-9523A04734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8674-2D15-4D85-A65F-54AF8998AE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7E95-D8C9-43E5-9A88-9DFF860F86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BEBB-3636-4E7E-90DD-9F5AA204F7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2092-A979-4949-8C38-F98407580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78B4-4670-4FFC-982F-853622849D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48C0-04C4-4668-8980-B62AEEB946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05C1-AD7F-4696-BDDF-3A74FBD773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17D5-2A51-4FFE-8EBE-28724912ED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102E-9564-4F37-8614-299255E708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20856-AB9D-4114-A3EF-FFEB0954D4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D4376-67F3-4B69-AE7B-FFFD1CAEE4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33443-81CB-4F68-8E9B-E776A439DC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46E55-817B-44D7-B008-B5DA892272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228C5-049D-4D8A-8054-748B3AA26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F57CB-83C4-4BB6-B2C5-A1A8906F1F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D5BE2-D3E7-4A61-91E7-A011420F65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49E98-E333-46CD-8761-E07FFB833E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8BE01-FA14-4FDE-AA67-54B9D54810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6C7A4-D384-4868-8E25-CFC8292691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658A0-4EFA-4C5A-A1AA-B09E6E6818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9679A-8866-4FE9-9DD9-59631942B6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2F32CD-9168-4E23-9FFC-10780B8E13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63FEF-8F5C-472B-BCAE-44919407FB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D41369-772F-4D9C-AEBF-890BF822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C6BF-5A12-4243-86CA-01D2EC2A3E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059-F1AF-449C-8739-C42512F107CC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4F8-0494-4B3E-9A71-06574686FB6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EC3-3C5F-45DB-ABA4-D0611507F86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CDF3-9A8E-4971-AB3E-B71E53C7A4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2598-8AE8-4452-88E3-2B90D7ED2E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C12-2F17-4676-9DC9-4D5708B25AD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9B84-0AA2-4FAB-B5B0-128315EC116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63A-A7F2-4045-882F-3E7A56C0B97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74D7-8011-4DC2-AE76-C921C52B2E7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Retorica della parola e dell’immagi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Mauro Alber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1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500280"/>
            <a:ext cx="8280360" cy="46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Si fanno più figure in un giorno di mercato in piazza che in molti giorni di assemblee accademiche”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(C.Ch. Du Marsais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La retorica vive nella realtà quotidiana perché imprime forza al messaggio. Il corso si propone di indagare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l’aspetto retorico e figurale 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comune tanto alla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dimensione verbale 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(testi letterari e non) quanto a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quella iconica 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(pubblicità, grafica, web design).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Si analizzeranno le principali tecniche utilizzate nella comunicazione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per evidenziare 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come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un messaggio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, linguistico o iconico, sia tanto più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efficace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 quanto più </a:t>
            </a:r>
            <a:r>
              <a:rPr b="1" lang="it-IT" sz="1700" spc="-1" strike="noStrike">
                <a:solidFill>
                  <a:srgbClr val="ff0000"/>
                </a:solidFill>
                <a:latin typeface="Verdana"/>
              </a:rPr>
              <a:t>retoricamente costruito</a:t>
            </a: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91800" y="15876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Umanist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lla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prima part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, si forniranno le definizioni e la classificazione del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figure retorich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, chiarendo le implicazioni persuasive del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tecniche argomentativ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 analizzando esempi significativi di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ambito linguistic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in particolare, si analizzerà </a:t>
            </a: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Esercizi di st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di Raymond Queneau)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ella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seconda part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, si vedrà, attraverso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analisi pratich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, il funzionamento delle figure retoriche in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testi iconic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soprattutto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pubblicitar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opo aver analizzato il concetto di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transcodifica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(dal linguistico all’iconico), si proporrà agli studenti di realizzare un lavoro di transcodifica su alcune </a:t>
            </a: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Città invisibi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di Italo Calvino.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ghjsyh whwrtyh</cp:lastModifiedBy>
  <cp:lastPrinted>2003-05-08T11:08:41Z</cp:lastPrinted>
  <dcterms:modified xsi:type="dcterms:W3CDTF">2014-07-28T10:03:32Z</dcterms:modified>
  <cp:revision>213</cp:revision>
  <dc:subject/>
  <dc:title>Inserire immagine della locandina, possibilmente in trasparenza e aggiungere Facoltà di Architettura Illustrazione prova di ammissione prof. Silvia Piardi (idem Cedolin)</dc:title>
</cp:coreProperties>
</file>